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95AB-62B9-47CF-B682-8E2E845F5B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1B0E-53A9-4F93-8A37-D4DC0E1D09C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A591-D894-4325-BBA5-0308C55E9C3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F0AF-CAB5-4B43-B483-9573EC5544A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40E4-26E9-4B9B-ACB9-BED797B9F69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2C89-559F-445E-9554-86AFA49387D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1A6D-D685-4CF8-B60C-68E0D6E7537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8105-9A09-423D-BF2D-D9713426811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8B59B-2BF4-4B05-B5D4-D8A3801670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BEC7-F5BD-45EC-B12D-DD97CF6F0A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0F75-F24D-4071-9FEA-B14E8931656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BBC7-4949-45AA-85D8-4E10EDDA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142-4CD7-4E97-BDDE-6530BD41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86A-8091-4D20-882E-5880A0BB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46CE-0565-4357-B50A-EE31305C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846A-A27A-4280-A96F-71157A05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D66F-9898-45CA-B8B7-19D99BEE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1EB-91AE-4070-9874-38349F5C8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4D9-BD48-4EF7-8104-69E2416D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B0BF-0FA7-4790-BBE8-753BE8BA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8D23-74C8-4E63-8962-67F16E47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91F3-D639-4182-8E76-33DD5FDE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4595-94B9-462E-A5B5-EB9E7961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4CF2-1E1C-4236-BAEA-E252F96DD7A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STOPY BOŽÍ VE SVĚ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3200" y="544464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Pomůcka k seznámení se s použitím přírodních symbolů v Bib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42920" y="2997000"/>
            <a:ext cx="6732720" cy="22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a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techetické a pedagogické centrum Biskupství královéhradecké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 rámci projektu „Využití křesťanského dědictví ve výuce“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rčeno pouze pro výukové účel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lista-loga_barevne_mal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195640" y="5157720"/>
            <a:ext cx="4392360" cy="79524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1" descr=""/>
          <p:cNvPicPr/>
          <p:nvPr/>
        </p:nvPicPr>
        <p:blipFill>
          <a:blip r:embed="rId2"/>
          <a:stretch/>
        </p:blipFill>
        <p:spPr>
          <a:xfrm>
            <a:off x="3406680" y="314280"/>
            <a:ext cx="2330640" cy="26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měty k práci se žák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chna náboženství využívají hojně přírodní a přirozené symboly. Na následujících snímcích naleznete odkazy na některé z ni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áci dostanou jako pomůcku Bibli, pracují ve dvojicích či trojicích. Každé skupině přidělte jeden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Žáci si najdou příslušné texty a opíší si je. Poté diskutují, jakým způsobem autor symbol použil. Hledají souvislost mezi vlastnostmi přírodniny (v jednom případě se jedná o dítě) a situací, ve které je jako symbol použi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slunce 1"/>
          <p:cNvPicPr/>
          <p:nvPr/>
        </p:nvPicPr>
        <p:blipFill>
          <a:blip r:embed="rId1"/>
          <a:stretch/>
        </p:blipFill>
        <p:spPr>
          <a:xfrm>
            <a:off x="1042920" y="260280"/>
            <a:ext cx="7056360" cy="53452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08464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Slunce: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n 1,14.16.18; Dt 33,14; Sd 5, 31; Ž 89, 37;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 3, 20; Mt 13, 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slunce 1"/>
          <p:cNvPicPr/>
          <p:nvPr/>
        </p:nvPicPr>
        <p:blipFill>
          <a:blip r:embed="rId1"/>
          <a:stretch/>
        </p:blipFill>
        <p:spPr>
          <a:xfrm>
            <a:off x="1042920" y="260280"/>
            <a:ext cx="7056360" cy="53452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5084640"/>
            <a:ext cx="82296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Voda: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 104; Ez 36,24–28; Ex 17,1–7 a Iz 41,17–20 a J 4,7–15; Ř 6,3–11 a Tt 3,5–7;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slunce 1"/>
          <p:cNvPicPr/>
          <p:nvPr/>
        </p:nvPicPr>
        <p:blipFill>
          <a:blip r:embed="rId1"/>
          <a:stretch/>
        </p:blipFill>
        <p:spPr>
          <a:xfrm>
            <a:off x="1619280" y="549360"/>
            <a:ext cx="59752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48"/>
          <p:cNvPicPr/>
          <p:nvPr/>
        </p:nvPicPr>
        <p:blipFill>
          <a:blip r:embed="rId2"/>
          <a:stretch/>
        </p:blipFill>
        <p:spPr>
          <a:xfrm>
            <a:off x="684360" y="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Skála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 32,1–43 (jednodušší: 2 S 22,32.47 a Ž 62, 3.8); Mt 16,18 a 1 K 3,10–15; Mt 7,2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PA280157"/>
          <p:cNvPicPr/>
          <p:nvPr/>
        </p:nvPicPr>
        <p:blipFill>
          <a:blip r:embed="rId1"/>
          <a:stretch/>
        </p:blipFill>
        <p:spPr>
          <a:xfrm>
            <a:off x="611280" y="-387360"/>
            <a:ext cx="7991280" cy="61167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Strom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n 3,22.24 a Př 3,13–21; Oz 4,6–8 a Ez 17,22–24 a Mt 13,31–32; Oz 14,9 a J 15,1–14; Mdr 14,7–8 a Zj 2,7 a Zj 22,2.14;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hora2"/>
          <p:cNvPicPr/>
          <p:nvPr/>
        </p:nvPicPr>
        <p:blipFill>
          <a:blip r:embed="rId1"/>
          <a:stretch/>
        </p:blipFill>
        <p:spPr>
          <a:xfrm>
            <a:off x="468360" y="189000"/>
            <a:ext cx="8496360" cy="564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Hora</a:t>
            </a:r>
            <a:br>
              <a:rPr sz="40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Ž 90,2 a J 4,20–24; Gn 19,17 a Mt 24,14–17 a Jr 3,21–23; Ex 24,12–18 a Mt 17,1–2; Ž 53,1 a J 19,17 a Zj 14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5170369"/>
          <p:cNvPicPr/>
          <p:nvPr/>
        </p:nvPicPr>
        <p:blipFill>
          <a:blip r:embed="rId1"/>
          <a:stretch/>
        </p:blipFill>
        <p:spPr>
          <a:xfrm>
            <a:off x="684360" y="0"/>
            <a:ext cx="7632720" cy="57243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Dít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n 4,1 a Ž 128; L 2,22–24; Ž 131,2 a L 9,46–48; Mk 10,14–15 a Mt 11,25; Iz 9,1–6 a L 2,11–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P7210101"/>
          <p:cNvPicPr/>
          <p:nvPr/>
        </p:nvPicPr>
        <p:blipFill>
          <a:blip r:embed="rId1"/>
          <a:stretch/>
        </p:blipFill>
        <p:spPr>
          <a:xfrm>
            <a:off x="611280" y="0"/>
            <a:ext cx="7991280" cy="5994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ff"/>
                </a:solidFill>
                <a:latin typeface="Arial"/>
              </a:rPr>
              <a:t>Květina – lili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t 6,28–30; Ž 103,13–18 a Iz 40,5–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7:51:29Z</dcterms:created>
  <dc:creator>Katechetické a pedagogické centrum</dc:creator>
  <dc:description/>
  <dc:language>en-US</dc:language>
  <cp:lastModifiedBy>Zimmermannová Marie ThLic. Ing.</cp:lastModifiedBy>
  <dcterms:modified xsi:type="dcterms:W3CDTF">2012-07-13T17:35:02Z</dcterms:modified>
  <cp:revision>7</cp:revision>
  <dc:subject/>
  <dc:title>STOPY BOŽÍ VE SVĚTĚ</dc:title>
</cp:coreProperties>
</file>